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CB0BFE-6F52-4CF0-8F0C-32DCC9400D7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8B8BC9-998C-4F52-9E70-B8FFBBC69DF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5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910144-1F3D-45A0-AF01-07A3DBD230E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9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16B3BF-840C-4003-855D-8234DBF2E88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5B4E11-01B6-4CF4-8DB0-26606B8FDB4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D72FB4-656E-4962-A7ED-966C3B990A2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1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85D7BA-48E4-45C5-B7C7-A4FFDE73587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D1B3FC-1CF3-4F46-8BFC-786D71E3F16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49014D-8148-46EA-B99B-E5622849AB4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381DD1-6526-4FB1-9E34-466A6F0E6C9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5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AB58FF-1795-4113-A517-4C5028C2A1B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9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401748-EF1B-4F22-9682-FEDE0161739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F0E2BB-F0AD-4F29-A8AB-1C0C58B0857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7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681EB2-574D-4F97-A40B-0D76935D961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362-7797-412F-922C-A24986EF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8EB-EFEB-4DFF-A9F4-B0F371BC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BF9-D72D-4C11-9D50-FCAE6013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45A-FAB7-4E3D-A5FD-5F873BF5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D5F5-1E5C-440E-9393-D054B210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3EDA-AC2F-474D-90AF-1326377B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19AE-1BF8-4C20-A27E-D7A45CC8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839A-4F76-432F-B05A-3173CC24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415D-2961-46EA-BD89-58B4C197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A9A1-93E9-418F-84C8-68A0EE66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674E-1800-4D3F-B3EC-1736CC60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085-9EC3-4B60-86E6-F98E53CC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C8AF-BA33-472C-BF04-B10AC905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4517-521F-4B1A-AC07-747F9577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ADD0-A619-4DAE-83DB-1EBBC870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6A84-DAE2-4EB7-8C61-EB4C4E14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7111-528F-421B-8FF0-1863435E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DA5-C4C9-4646-B5D7-D46B9EBE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5B1-372B-4464-9F80-3CA9E9D0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578-4B1D-4D73-B114-608C61D1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693-2A3A-41E7-B8BC-A6F75A28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8B8-6D42-40BF-B354-2D368A5B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4B8-C068-4B12-A8D9-669E5E1D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A08-E590-4430-A121-4F033146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1CEE-E4AA-410B-A646-E3138ED5D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DCE1-F3F6-4A25-B98D-242475D394D3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Exact string search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16360" y="6308640"/>
            <a:ext cx="4427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Paper on Cuckoo Hash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Line 37"/>
          <p:cNvSpPr/>
          <p:nvPr/>
        </p:nvSpPr>
        <p:spPr>
          <a:xfrm flipH="1" flipV="1">
            <a:off x="2438280" y="2742840"/>
            <a:ext cx="190512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Text Box 38"/>
          <p:cNvSpPr/>
          <p:nvPr/>
        </p:nvSpPr>
        <p:spPr>
          <a:xfrm>
            <a:off x="3277440" y="33019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Line 39"/>
          <p:cNvSpPr/>
          <p:nvPr/>
        </p:nvSpPr>
        <p:spPr>
          <a:xfrm flipH="1" flipV="1">
            <a:off x="2438280" y="2742840"/>
            <a:ext cx="19051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85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ckoo Hashing Exampl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Line 31"/>
          <p:cNvSpPr/>
          <p:nvPr/>
        </p:nvSpPr>
        <p:spPr>
          <a:xfrm>
            <a:off x="2438280" y="2743200"/>
            <a:ext cx="35816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Line 32"/>
          <p:cNvSpPr/>
          <p:nvPr/>
        </p:nvSpPr>
        <p:spPr>
          <a:xfrm>
            <a:off x="4267080" y="2743200"/>
            <a:ext cx="763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Line 33"/>
          <p:cNvSpPr/>
          <p:nvPr/>
        </p:nvSpPr>
        <p:spPr>
          <a:xfrm flipH="1">
            <a:off x="3352680" y="2743200"/>
            <a:ext cx="2743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Line 34"/>
          <p:cNvSpPr/>
          <p:nvPr/>
        </p:nvSpPr>
        <p:spPr>
          <a:xfrm flipV="1">
            <a:off x="4191120" y="274284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Line 35"/>
          <p:cNvSpPr/>
          <p:nvPr/>
        </p:nvSpPr>
        <p:spPr>
          <a:xfrm flipH="1" flipV="1">
            <a:off x="24382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Line 36"/>
          <p:cNvSpPr/>
          <p:nvPr/>
        </p:nvSpPr>
        <p:spPr>
          <a:xfrm flipV="1">
            <a:off x="6019920" y="2819160"/>
            <a:ext cx="7596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 Box 37"/>
          <p:cNvSpPr/>
          <p:nvPr/>
        </p:nvSpPr>
        <p:spPr>
          <a:xfrm>
            <a:off x="5410800" y="35053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Line 38"/>
          <p:cNvSpPr/>
          <p:nvPr/>
        </p:nvSpPr>
        <p:spPr>
          <a:xfrm flipH="1" flipV="1">
            <a:off x="4266720" y="2742840"/>
            <a:ext cx="175284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ttangolo arrotondato 5"/>
          <p:cNvSpPr/>
          <p:nvPr/>
        </p:nvSpPr>
        <p:spPr>
          <a:xfrm>
            <a:off x="785880" y="5929200"/>
            <a:ext cx="8358120" cy="928800"/>
          </a:xfrm>
          <a:prstGeom prst="roundRect">
            <a:avLst>
              <a:gd name="adj" fmla="val 16667"/>
            </a:avLst>
          </a:prstGeom>
          <a:solidFill>
            <a:srgbClr val="745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Random (bipartite) graph: node=cell, edge=ke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atural Extens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More than 2 hashes (choices) per ke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ery different: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ypergraph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nstead of graph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igher memory utiliz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 choices : 90+% in experi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 choices : about 97%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2 hashes +  bins of B-size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lanced allocation and tightly O(1)-size bi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ion sees a tree of possible evict+ins path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6000840" y="3643200"/>
            <a:ext cx="3071880" cy="857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but more insert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(and random acces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6286680" y="6072120"/>
            <a:ext cx="285732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ore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...but more loc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Making one-side errors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ounded Rectangle 3"/>
          <p:cNvSpPr/>
          <p:nvPr/>
        </p:nvSpPr>
        <p:spPr>
          <a:xfrm>
            <a:off x="3780000" y="6308640"/>
            <a:ext cx="5364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Paper on Bloom Fil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does it mean to crawl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86" name="Picture 1" descr=""/>
          <p:cNvPicPr/>
          <p:nvPr/>
        </p:nvPicPr>
        <p:blipFill>
          <a:blip r:embed="rId1"/>
          <a:stretch/>
        </p:blipFill>
        <p:spPr>
          <a:xfrm>
            <a:off x="5281560" y="1677960"/>
            <a:ext cx="3827520" cy="4127400"/>
          </a:xfrm>
          <a:prstGeom prst="rect">
            <a:avLst/>
          </a:prstGeom>
          <a:ln w="0">
            <a:noFill/>
          </a:ln>
        </p:spPr>
      </p:pic>
      <p:sp>
        <p:nvSpPr>
          <p:cNvPr id="387" name="Rounded Rectangle 5"/>
          <p:cNvSpPr/>
          <p:nvPr/>
        </p:nvSpPr>
        <p:spPr>
          <a:xfrm>
            <a:off x="5435640" y="5877000"/>
            <a:ext cx="3708360" cy="98100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What to crawl in the Web 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How deep to crawl a site 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How often to crawl a page 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88" name="Picture 2" descr="http://i.stack.imgur.com/1j5IO.jpg"/>
          <p:cNvPicPr/>
          <p:nvPr/>
        </p:nvPicPr>
        <p:blipFill>
          <a:blip r:embed="rId2"/>
          <a:stretch/>
        </p:blipFill>
        <p:spPr>
          <a:xfrm>
            <a:off x="492120" y="1844640"/>
            <a:ext cx="4151160" cy="374508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403280" y="1989000"/>
            <a:ext cx="79236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1128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Oval 8"/>
          <p:cNvSpPr/>
          <p:nvPr/>
        </p:nvSpPr>
        <p:spPr>
          <a:xfrm>
            <a:off x="234000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Freeform 10"/>
          <p:cNvSpPr/>
          <p:nvPr/>
        </p:nvSpPr>
        <p:spPr>
          <a:xfrm>
            <a:off x="1378080" y="2470320"/>
            <a:ext cx="569880" cy="1023840"/>
          </a:xfrm>
          <a:custGeom>
            <a:avLst/>
            <a:gdLst/>
            <a:ahLst/>
            <a:rect l="l" t="t" r="r" b="b"/>
            <a:pathLst>
              <a:path w="568699" h="1023582">
                <a:moveTo>
                  <a:pt x="0" y="1023582"/>
                </a:moveTo>
                <a:cubicBezTo>
                  <a:pt x="18197" y="1014483"/>
                  <a:pt x="39385" y="1009802"/>
                  <a:pt x="54591" y="996286"/>
                </a:cubicBezTo>
                <a:cubicBezTo>
                  <a:pt x="81147" y="972681"/>
                  <a:pt x="94095" y="935298"/>
                  <a:pt x="122830" y="914400"/>
                </a:cubicBezTo>
                <a:cubicBezTo>
                  <a:pt x="140235" y="901742"/>
                  <a:pt x="230440" y="880673"/>
                  <a:pt x="259307" y="873456"/>
                </a:cubicBezTo>
                <a:cubicBezTo>
                  <a:pt x="272955" y="859808"/>
                  <a:pt x="285597" y="845074"/>
                  <a:pt x="300251" y="832513"/>
                </a:cubicBezTo>
                <a:cubicBezTo>
                  <a:pt x="317521" y="817710"/>
                  <a:pt x="340039" y="808840"/>
                  <a:pt x="354842" y="791570"/>
                </a:cubicBezTo>
                <a:cubicBezTo>
                  <a:pt x="368082" y="776123"/>
                  <a:pt x="369930" y="753255"/>
                  <a:pt x="382137" y="736979"/>
                </a:cubicBezTo>
                <a:cubicBezTo>
                  <a:pt x="397578" y="716391"/>
                  <a:pt x="421287" y="702976"/>
                  <a:pt x="436728" y="682388"/>
                </a:cubicBezTo>
                <a:cubicBezTo>
                  <a:pt x="448935" y="666112"/>
                  <a:pt x="453241" y="645049"/>
                  <a:pt x="464024" y="627797"/>
                </a:cubicBezTo>
                <a:cubicBezTo>
                  <a:pt x="536152" y="512392"/>
                  <a:pt x="478763" y="638716"/>
                  <a:pt x="532263" y="504967"/>
                </a:cubicBezTo>
                <a:cubicBezTo>
                  <a:pt x="563776" y="347395"/>
                  <a:pt x="568699" y="350588"/>
                  <a:pt x="532263" y="95534"/>
                </a:cubicBezTo>
                <a:cubicBezTo>
                  <a:pt x="529533" y="76427"/>
                  <a:pt x="505845" y="67301"/>
                  <a:pt x="491319" y="54591"/>
                </a:cubicBezTo>
                <a:cubicBezTo>
                  <a:pt x="469397" y="35409"/>
                  <a:pt x="423080" y="0"/>
                  <a:pt x="423080" y="0"/>
                </a:cubicBezTo>
              </a:path>
            </a:pathLst>
          </a:custGeom>
          <a:noFill/>
          <a:ln w="76320">
            <a:solidFill>
              <a:srgbClr val="ad8c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Oval 11"/>
          <p:cNvSpPr/>
          <p:nvPr/>
        </p:nvSpPr>
        <p:spPr>
          <a:xfrm>
            <a:off x="611280" y="4724280"/>
            <a:ext cx="792000" cy="4334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4" name="Straight Arrow Connector 13"/>
          <p:cNvCxnSpPr>
            <a:stCxn id="391" idx="2"/>
          </p:cNvCxnSpPr>
          <p:nvPr/>
        </p:nvCxnSpPr>
        <p:spPr>
          <a:xfrm flipH="1">
            <a:off x="1331640" y="3500280"/>
            <a:ext cx="1008720" cy="115344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395" name="Straight Arrow Connector 14"/>
          <p:cNvCxnSpPr>
            <a:stCxn id="390" idx="4"/>
            <a:endCxn id="393" idx="0"/>
          </p:cNvCxnSpPr>
          <p:nvPr/>
        </p:nvCxnSpPr>
        <p:spPr>
          <a:xfrm>
            <a:off x="1007640" y="3716280"/>
            <a:ext cx="1080" cy="100872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396" name="Straight Arrow Connector 12"/>
          <p:cNvCxnSpPr>
            <a:stCxn id="391" idx="6"/>
          </p:cNvCxnSpPr>
          <p:nvPr/>
        </p:nvCxnSpPr>
        <p:spPr>
          <a:xfrm>
            <a:off x="3131640" y="3500280"/>
            <a:ext cx="1080360" cy="65016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397" name="Oval 17"/>
          <p:cNvSpPr/>
          <p:nvPr/>
        </p:nvSpPr>
        <p:spPr>
          <a:xfrm>
            <a:off x="3780000" y="4149720"/>
            <a:ext cx="792000" cy="4316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111480" y="5800680"/>
            <a:ext cx="2262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7675560" cy="38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keep track of the URLs visited by a crawler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RLs ar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lo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eck should b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very 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499"/>
              </a:spcBef>
              <a:spcAft>
                <a:spcPts val="876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 care abou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small error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≈ page not crawl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072120" y="5429160"/>
            <a:ext cx="2857680" cy="135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Bloom Fil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over crawled URL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earching with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errors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rcRect l="0" t="25756" r="0" b="0"/>
          <a:stretch/>
        </p:blipFill>
        <p:spPr>
          <a:xfrm>
            <a:off x="0" y="1773360"/>
            <a:ext cx="9144000" cy="5110200"/>
          </a:xfrm>
          <a:prstGeom prst="rect">
            <a:avLst/>
          </a:prstGeom>
          <a:ln w="0">
            <a:noFill/>
          </a:ln>
        </p:spPr>
      </p:pic>
      <p:sp>
        <p:nvSpPr>
          <p:cNvPr id="406" name="Rettangolo 4"/>
          <p:cNvSpPr/>
          <p:nvPr/>
        </p:nvSpPr>
        <p:spPr>
          <a:xfrm>
            <a:off x="0" y="6143760"/>
            <a:ext cx="914400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10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Exact 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425960" y="4245120"/>
            <a:ext cx="255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8000"/>
                </a:solidFill>
                <a:latin typeface="Comic Sans MS"/>
              </a:rPr>
              <a:t>Hashing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4357800" y="5286240"/>
            <a:ext cx="32144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Rounded Rectangle 5"/>
          <p:cNvSpPr/>
          <p:nvPr/>
        </p:nvSpPr>
        <p:spPr>
          <a:xfrm>
            <a:off x="5003640" y="5805360"/>
            <a:ext cx="3600720" cy="792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roblem: false posi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6175440" y="3214800"/>
            <a:ext cx="539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7429680" y="3176640"/>
            <a:ext cx="323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Oval 7"/>
          <p:cNvSpPr/>
          <p:nvPr/>
        </p:nvSpPr>
        <p:spPr>
          <a:xfrm>
            <a:off x="6929280" y="2928960"/>
            <a:ext cx="285840" cy="285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Oval 8"/>
          <p:cNvSpPr/>
          <p:nvPr/>
        </p:nvSpPr>
        <p:spPr>
          <a:xfrm>
            <a:off x="7429680" y="3929040"/>
            <a:ext cx="285480" cy="3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Oval 9"/>
          <p:cNvSpPr/>
          <p:nvPr/>
        </p:nvSpPr>
        <p:spPr>
          <a:xfrm>
            <a:off x="6929280" y="2357280"/>
            <a:ext cx="2858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786040" y="2571840"/>
            <a:ext cx="278604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5"/>
          <p:cNvSpPr/>
          <p:nvPr/>
        </p:nvSpPr>
        <p:spPr>
          <a:xfrm>
            <a:off x="6804000" y="4508640"/>
            <a:ext cx="2160720" cy="43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Not perfectly true but.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ttangolo 5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857160" y="4000680"/>
            <a:ext cx="650088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785880" y="5143680"/>
            <a:ext cx="800100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2"/>
          <p:cNvSpPr/>
          <p:nvPr/>
        </p:nvSpPr>
        <p:spPr>
          <a:xfrm>
            <a:off x="214200" y="3357720"/>
            <a:ext cx="892980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571680" y="3143160"/>
            <a:ext cx="778644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642960" y="4357800"/>
            <a:ext cx="77868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42" name="Object 3"/>
          <p:cNvGraphicFramePr/>
          <p:nvPr/>
        </p:nvGraphicFramePr>
        <p:xfrm>
          <a:off x="2292480" y="3413160"/>
          <a:ext cx="3994200" cy="246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2480" y="3413160"/>
                    <a:ext cx="399420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Text Box 4"/>
          <p:cNvSpPr/>
          <p:nvPr/>
        </p:nvSpPr>
        <p:spPr>
          <a:xfrm>
            <a:off x="6948720" y="4140360"/>
            <a:ext cx="14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m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/</a:t>
            </a:r>
            <a:r>
              <a:rPr b="0" i="1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n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 = 8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Line 5"/>
          <p:cNvSpPr/>
          <p:nvPr/>
        </p:nvSpPr>
        <p:spPr>
          <a:xfrm flipH="1">
            <a:off x="4276440" y="4214880"/>
            <a:ext cx="152280" cy="1066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3475080" y="3957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Opt </a:t>
            </a:r>
            <a:r>
              <a:rPr b="0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= 5.45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286680" y="5214960"/>
            <a:ext cx="2857320" cy="1643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We do have a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xplicit formul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or the optimal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8" name="Picture 3" descr="C:\Users\ferragin\Desktop\Picture3.png"/>
          <p:cNvPicPr/>
          <p:nvPr/>
        </p:nvPicPr>
        <p:blipFill>
          <a:blip r:embed="rId4"/>
          <a:stretch/>
        </p:blipFill>
        <p:spPr>
          <a:xfrm>
            <a:off x="249120" y="4286160"/>
            <a:ext cx="18939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571680" y="1928880"/>
            <a:ext cx="778644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642960" y="4357800"/>
            <a:ext cx="77868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55" name="Picture 3" descr="C:\Users\ferragin\Desktop\Picture3.png"/>
          <p:cNvPicPr/>
          <p:nvPr/>
        </p:nvPicPr>
        <p:blipFill>
          <a:blip r:embed="rId2"/>
          <a:stretch/>
        </p:blipFill>
        <p:spPr>
          <a:xfrm>
            <a:off x="4035600" y="3108240"/>
            <a:ext cx="1893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Prefix-string search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Rounded Rectangle 4"/>
          <p:cNvSpPr/>
          <p:nvPr/>
        </p:nvSpPr>
        <p:spPr>
          <a:xfrm>
            <a:off x="5724360" y="6119640"/>
            <a:ext cx="327672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3.1 and 5.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refix-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refix 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: speeding-up sear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467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8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69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470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1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72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74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475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7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478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9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80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84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485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6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7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8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489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0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91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492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3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94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495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6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97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498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9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0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501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2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3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504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5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06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08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509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0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11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5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516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7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18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0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4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and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ashing with chai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200" y="1852560"/>
            <a:ext cx="8715600" cy="44341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86280" y="2638440"/>
            <a:ext cx="307188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ront-coding: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queezing str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691200" y="3521160"/>
            <a:ext cx="31464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Natural/Washcloth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31" name="Group 5"/>
          <p:cNvGrpSpPr/>
          <p:nvPr/>
        </p:nvGrpSpPr>
        <p:grpSpPr>
          <a:xfrm>
            <a:off x="538200" y="3449520"/>
            <a:ext cx="3744720" cy="2950920"/>
            <a:chOff x="538200" y="3449520"/>
            <a:chExt cx="3744720" cy="2950920"/>
          </a:xfrm>
        </p:grpSpPr>
        <p:sp>
          <p:nvSpPr>
            <p:cNvPr id="532" name="Rectangle 6"/>
            <p:cNvSpPr/>
            <p:nvPr/>
          </p:nvSpPr>
          <p:spPr>
            <a:xfrm>
              <a:off x="538200" y="3449520"/>
              <a:ext cx="3744720" cy="2087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3" name="Rectangle 7"/>
            <p:cNvSpPr/>
            <p:nvPr/>
          </p:nvSpPr>
          <p:spPr>
            <a:xfrm>
              <a:off x="538200" y="5608440"/>
              <a:ext cx="3744720" cy="792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34" name="Text Box 8"/>
          <p:cNvSpPr/>
          <p:nvPr/>
        </p:nvSpPr>
        <p:spPr>
          <a:xfrm>
            <a:off x="5295600" y="3160800"/>
            <a:ext cx="22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99"/>
                </a:solidFill>
                <a:latin typeface="Lucida Sans"/>
              </a:rPr>
              <a:t>0    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42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35" name="Group 13"/>
          <p:cNvGrpSpPr/>
          <p:nvPr/>
        </p:nvGrpSpPr>
        <p:grpSpPr>
          <a:xfrm>
            <a:off x="4376160" y="3159000"/>
            <a:ext cx="4299480" cy="2555640"/>
            <a:chOff x="4376160" y="3159000"/>
            <a:chExt cx="4299480" cy="2555640"/>
          </a:xfrm>
        </p:grpSpPr>
        <p:grpSp>
          <p:nvGrpSpPr>
            <p:cNvPr id="536" name="Group 14"/>
            <p:cNvGrpSpPr/>
            <p:nvPr/>
          </p:nvGrpSpPr>
          <p:grpSpPr>
            <a:xfrm>
              <a:off x="4376160" y="3159000"/>
              <a:ext cx="4299480" cy="2555640"/>
              <a:chOff x="4376160" y="3159000"/>
              <a:chExt cx="4299480" cy="2555640"/>
            </a:xfrm>
          </p:grpSpPr>
          <p:sp>
            <p:nvSpPr>
              <p:cNvPr id="537" name="Rectangle 15"/>
              <p:cNvSpPr/>
              <p:nvPr/>
            </p:nvSpPr>
            <p:spPr>
              <a:xfrm>
                <a:off x="5218200" y="3160440"/>
                <a:ext cx="3440160" cy="2017800"/>
              </a:xfrm>
              <a:prstGeom prst="rect">
                <a:avLst/>
              </a:pr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8" name="AutoShape 16"/>
              <p:cNvSpPr/>
              <p:nvPr/>
            </p:nvSpPr>
            <p:spPr>
              <a:xfrm>
                <a:off x="4425840" y="3466800"/>
                <a:ext cx="720720" cy="977760"/>
              </a:xfrm>
              <a:prstGeom prst="rightArrow">
                <a:avLst>
                  <a:gd name="adj1" fmla="val 41065"/>
                  <a:gd name="adj2" fmla="val 2159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9" name="Text Box 17"/>
              <p:cNvSpPr/>
              <p:nvPr/>
            </p:nvSpPr>
            <p:spPr>
              <a:xfrm>
                <a:off x="4376160" y="315900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33</a:t>
                </a:r>
                <a:r>
                  <a:rPr b="0" lang="it-IT" sz="1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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45%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0" name="Rectangle 18"/>
              <p:cNvSpPr/>
              <p:nvPr/>
            </p:nvSpPr>
            <p:spPr>
              <a:xfrm>
                <a:off x="5218200" y="5211360"/>
                <a:ext cx="3457440" cy="5032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41" name="Text Box 19"/>
            <p:cNvSpPr/>
            <p:nvPr/>
          </p:nvSpPr>
          <p:spPr>
            <a:xfrm>
              <a:off x="5319360" y="5249520"/>
              <a:ext cx="313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99"/>
                  </a:solidFill>
                  <a:latin typeface="Lucida Sans"/>
                </a:rPr>
                <a:t>0    http://checkmate.com/All/Natural/Washcloth.html</a:t>
              </a:r>
              <a:r>
                <a:rPr b="0" lang="it-IT" sz="900" spc="-1" strike="noStrike">
                  <a:solidFill>
                    <a:srgbClr val="000000"/>
                  </a:solidFill>
                  <a:latin typeface="Lucida Sans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2" name="Text Box 20"/>
          <p:cNvSpPr/>
          <p:nvPr/>
        </p:nvSpPr>
        <p:spPr>
          <a:xfrm>
            <a:off x="537840" y="2252520"/>
            <a:ext cx="66031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systile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et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3" name="Group 27"/>
          <p:cNvGrpSpPr/>
          <p:nvPr/>
        </p:nvGrpSpPr>
        <p:grpSpPr>
          <a:xfrm>
            <a:off x="2268360" y="2265480"/>
            <a:ext cx="4030920" cy="968760"/>
            <a:chOff x="2268360" y="2265480"/>
            <a:chExt cx="4030920" cy="968760"/>
          </a:xfrm>
        </p:grpSpPr>
        <p:sp>
          <p:nvSpPr>
            <p:cNvPr id="544" name="Rectangle 21"/>
            <p:cNvSpPr/>
            <p:nvPr/>
          </p:nvSpPr>
          <p:spPr>
            <a:xfrm>
              <a:off x="2268360" y="2265480"/>
              <a:ext cx="35892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5" name="Rectangle 22"/>
            <p:cNvSpPr/>
            <p:nvPr/>
          </p:nvSpPr>
          <p:spPr>
            <a:xfrm>
              <a:off x="3924360" y="2265480"/>
              <a:ext cx="93492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6" name="Rectangle 23"/>
            <p:cNvSpPr/>
            <p:nvPr/>
          </p:nvSpPr>
          <p:spPr>
            <a:xfrm>
              <a:off x="5364000" y="2265480"/>
              <a:ext cx="93528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7" name="Text Box 24"/>
            <p:cNvSpPr/>
            <p:nvPr/>
          </p:nvSpPr>
          <p:spPr>
            <a:xfrm>
              <a:off x="2277000" y="28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8" name="Text Box 25"/>
            <p:cNvSpPr/>
            <p:nvPr/>
          </p:nvSpPr>
          <p:spPr>
            <a:xfrm>
              <a:off x="422028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566028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50" name="AutoShape 29"/>
          <p:cNvSpPr/>
          <p:nvPr/>
        </p:nvSpPr>
        <p:spPr>
          <a:xfrm>
            <a:off x="5327640" y="609444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zip may be much bett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1452600" y="599292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 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Text Box 50"/>
          <p:cNvSpPr/>
          <p:nvPr/>
        </p:nvSpPr>
        <p:spPr>
          <a:xfrm>
            <a:off x="2124000" y="4363920"/>
            <a:ext cx="18734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57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558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9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60" name="Text Box 59"/>
          <p:cNvSpPr/>
          <p:nvPr/>
        </p:nvSpPr>
        <p:spPr>
          <a:xfrm>
            <a:off x="4391280" y="3357720"/>
            <a:ext cx="4598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Line 63"/>
          <p:cNvSpPr/>
          <p:nvPr/>
        </p:nvSpPr>
        <p:spPr>
          <a:xfrm flipV="1">
            <a:off x="5076720" y="6165360"/>
            <a:ext cx="1366920" cy="49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Text Box 59"/>
          <p:cNvSpPr/>
          <p:nvPr/>
        </p:nvSpPr>
        <p:spPr>
          <a:xfrm>
            <a:off x="4587120" y="1857240"/>
            <a:ext cx="371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pace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Front-coding over bucket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Rectangle 19"/>
          <p:cNvSpPr/>
          <p:nvPr/>
        </p:nvSpPr>
        <p:spPr>
          <a:xfrm>
            <a:off x="1857240" y="5857920"/>
            <a:ext cx="30196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Rectangle 20"/>
          <p:cNvSpPr/>
          <p:nvPr/>
        </p:nvSpPr>
        <p:spPr>
          <a:xfrm>
            <a:off x="5000760" y="5857920"/>
            <a:ext cx="321444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Line 62"/>
          <p:cNvSpPr/>
          <p:nvPr/>
        </p:nvSpPr>
        <p:spPr>
          <a:xfrm>
            <a:off x="1911240" y="6215040"/>
            <a:ext cx="7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y issue: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a good hash fun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97600" y="174456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0000"/>
                </a:solidFill>
                <a:uFillTx/>
                <a:latin typeface="Lucida Sans"/>
                <a:ea typeface="Arial"/>
              </a:rPr>
              <a:t>Basic assumption:</a:t>
            </a:r>
            <a:r>
              <a:rPr b="0" lang="it-IT" sz="3200" spc="-1" strike="noStrike">
                <a:solidFill>
                  <a:srgbClr val="333399"/>
                </a:solidFill>
                <a:latin typeface="Lucida San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Arial"/>
              </a:rPr>
              <a:t>Uniform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14200" y="3030480"/>
            <a:ext cx="8786880" cy="1481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34920" y="503244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Avg #keys per slot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n * (1/m)  = n/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</a:t>
            </a:r>
            <a:r>
              <a:rPr b="0" lang="it-IT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Arial"/>
              </a:rPr>
              <a:t>(load factor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50920" y="5143680"/>
            <a:ext cx="8424720" cy="13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4000680" y="3500280"/>
            <a:ext cx="2928600" cy="500400"/>
            <a:chOff x="4000680" y="3500280"/>
            <a:chExt cx="2928600" cy="500400"/>
          </a:xfrm>
        </p:grpSpPr>
        <p:sp>
          <p:nvSpPr>
            <p:cNvPr id="105" name="Straight Connector 9"/>
            <p:cNvSpPr/>
            <p:nvPr/>
          </p:nvSpPr>
          <p:spPr>
            <a:xfrm>
              <a:off x="4000680" y="35002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Straight Connector 10"/>
            <p:cNvSpPr/>
            <p:nvPr/>
          </p:nvSpPr>
          <p:spPr>
            <a:xfrm>
              <a:off x="4500720" y="40006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earch cos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57280" y="1838160"/>
            <a:ext cx="8029440" cy="31816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880920" y="5715000"/>
            <a:ext cx="7120080" cy="1071720"/>
            <a:chOff x="880920" y="5715000"/>
            <a:chExt cx="7120080" cy="1071720"/>
          </a:xfrm>
        </p:grpSpPr>
        <p:pic>
          <p:nvPicPr>
            <p:cNvPr id="110" name="Picture 3" descr=""/>
            <p:cNvPicPr/>
            <p:nvPr/>
          </p:nvPicPr>
          <p:blipFill>
            <a:blip r:embed="rId2"/>
            <a:stretch/>
          </p:blipFill>
          <p:spPr>
            <a:xfrm>
              <a:off x="880920" y="5774040"/>
              <a:ext cx="712008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6"/>
            <p:cNvSpPr/>
            <p:nvPr/>
          </p:nvSpPr>
          <p:spPr>
            <a:xfrm>
              <a:off x="880920" y="5715000"/>
              <a:ext cx="7072560" cy="107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12" name="Picture 1" descr="C:\Users\ferragin\Desktop\Picture1.png"/>
          <p:cNvPicPr/>
          <p:nvPr/>
        </p:nvPicPr>
        <p:blipFill>
          <a:blip r:embed="rId3"/>
          <a:stretch/>
        </p:blipFill>
        <p:spPr>
          <a:xfrm>
            <a:off x="5880240" y="3071880"/>
            <a:ext cx="3263760" cy="23004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5786280" y="3000240"/>
            <a:ext cx="3357720" cy="2357640"/>
          </a:xfrm>
          <a:prstGeom prst="rect">
            <a:avLst/>
          </a:prstGeom>
          <a:noFill/>
          <a:ln w="381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071960" y="6202440"/>
            <a:ext cx="1913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m = </a:t>
            </a:r>
            <a:r>
              <a:rPr b="0" lang="it-IT" sz="3200" spc="-1" strike="noStrike">
                <a:solidFill>
                  <a:srgbClr val="c00000"/>
                </a:solidFill>
                <a:latin typeface="Symbol"/>
                <a:ea typeface="Symbol"/>
              </a:rPr>
              <a:t></a:t>
            </a: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In practi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752120"/>
            <a:ext cx="80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trivial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hash function 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571840" y="2630520"/>
            <a:ext cx="305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5628600" y="2916360"/>
            <a:ext cx="2058840" cy="581400"/>
            <a:chOff x="5628600" y="2916360"/>
            <a:chExt cx="2058840" cy="581400"/>
          </a:xfrm>
        </p:grpSpPr>
        <p:cxnSp>
          <p:nvCxnSpPr>
            <p:cNvPr id="119" name="Straight Arrow Connector 7"/>
            <p:cNvCxnSpPr/>
            <p:nvPr/>
          </p:nvCxnSpPr>
          <p:spPr>
            <a:xfrm flipH="1" flipV="1">
              <a:off x="5628600" y="3058200"/>
              <a:ext cx="786600" cy="3574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20" name="TextBox 8"/>
            <p:cNvSpPr/>
            <p:nvPr/>
          </p:nvSpPr>
          <p:spPr>
            <a:xfrm>
              <a:off x="6372720" y="291636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1" name="Rectangle 10"/>
          <p:cNvSpPr/>
          <p:nvPr/>
        </p:nvSpPr>
        <p:spPr>
          <a:xfrm>
            <a:off x="7429680" y="4643280"/>
            <a:ext cx="14256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1071720" y="4572000"/>
            <a:ext cx="7000560" cy="1143000"/>
            <a:chOff x="1071720" y="4572000"/>
            <a:chExt cx="7000560" cy="1143000"/>
          </a:xfrm>
        </p:grpSpPr>
        <p:pic>
          <p:nvPicPr>
            <p:cNvPr id="123" name="Picture 5" descr=""/>
            <p:cNvPicPr/>
            <p:nvPr/>
          </p:nvPicPr>
          <p:blipFill>
            <a:blip r:embed="rId2"/>
            <a:stretch/>
          </p:blipFill>
          <p:spPr>
            <a:xfrm>
              <a:off x="1176480" y="4652640"/>
              <a:ext cx="66103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12"/>
            <p:cNvSpPr/>
            <p:nvPr/>
          </p:nvSpPr>
          <p:spPr>
            <a:xfrm>
              <a:off x="1071720" y="4572000"/>
              <a:ext cx="7000560" cy="11430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it-IT" sz="36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i="1" lang="it-IT" sz="3600" spc="-1" strike="noStrike">
                <a:solidFill>
                  <a:srgbClr val="c00000"/>
                </a:solidFill>
                <a:latin typeface="Lucida Sans"/>
              </a:rPr>
              <a:t>provably good”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ash i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1680" y="480024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Each a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is selected at random in [0,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7" name="Group 21"/>
          <p:cNvGrpSpPr/>
          <p:nvPr/>
        </p:nvGrpSpPr>
        <p:grpSpPr>
          <a:xfrm>
            <a:off x="1428840" y="2357280"/>
            <a:ext cx="6000840" cy="642960"/>
            <a:chOff x="1428840" y="2357280"/>
            <a:chExt cx="6000840" cy="642960"/>
          </a:xfrm>
        </p:grpSpPr>
        <p:sp>
          <p:nvSpPr>
            <p:cNvPr id="128" name="Rectangle 3"/>
            <p:cNvSpPr/>
            <p:nvPr/>
          </p:nvSpPr>
          <p:spPr>
            <a:xfrm>
              <a:off x="1428840" y="235728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4"/>
            <p:cNvSpPr/>
            <p:nvPr/>
          </p:nvSpPr>
          <p:spPr>
            <a:xfrm>
              <a:off x="14288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22143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30002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66441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Straight Connector 14"/>
            <p:cNvSpPr/>
            <p:nvPr/>
          </p:nvSpPr>
          <p:spPr>
            <a:xfrm>
              <a:off x="4214880" y="264312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TextBox 15"/>
            <p:cNvSpPr/>
            <p:nvPr/>
          </p:nvSpPr>
          <p:spPr>
            <a:xfrm>
              <a:off x="161820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TextBox 16"/>
            <p:cNvSpPr/>
            <p:nvPr/>
          </p:nvSpPr>
          <p:spPr>
            <a:xfrm>
              <a:off x="246168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Box 17"/>
            <p:cNvSpPr/>
            <p:nvPr/>
          </p:nvSpPr>
          <p:spPr>
            <a:xfrm>
              <a:off x="324756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TextBox 19"/>
            <p:cNvSpPr/>
            <p:nvPr/>
          </p:nvSpPr>
          <p:spPr>
            <a:xfrm>
              <a:off x="6844680" y="2428560"/>
              <a:ext cx="37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" name="Group 24"/>
          <p:cNvGrpSpPr/>
          <p:nvPr/>
        </p:nvGrpSpPr>
        <p:grpSpPr>
          <a:xfrm>
            <a:off x="1428840" y="1643040"/>
            <a:ext cx="1589760" cy="642960"/>
            <a:chOff x="1428840" y="1643040"/>
            <a:chExt cx="1589760" cy="642960"/>
          </a:xfrm>
        </p:grpSpPr>
        <p:sp>
          <p:nvSpPr>
            <p:cNvPr id="139" name="Left Brace 22"/>
            <p:cNvSpPr/>
            <p:nvPr/>
          </p:nvSpPr>
          <p:spPr>
            <a:xfrm rot="5400000">
              <a:off x="1643040" y="1714680"/>
              <a:ext cx="357120" cy="7855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9000 h 785520"/>
                <a:gd name="textAreaBottom" fmla="*/ 77652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TextBox 23"/>
            <p:cNvSpPr/>
            <p:nvPr/>
          </p:nvSpPr>
          <p:spPr>
            <a:xfrm>
              <a:off x="1860840" y="1643040"/>
              <a:ext cx="115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≈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log</a:t>
              </a:r>
              <a:r>
                <a:rPr b="0" lang="it-IT" sz="2000" spc="-1" strike="noStrike" baseline="-25000">
                  <a:solidFill>
                    <a:srgbClr val="c00000"/>
                  </a:solidFill>
                  <a:latin typeface="Lucida Sans"/>
                </a:rPr>
                <a:t>2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1" name="TextBox 25"/>
          <p:cNvSpPr/>
          <p:nvPr/>
        </p:nvSpPr>
        <p:spPr>
          <a:xfrm>
            <a:off x="6301800" y="3214800"/>
            <a:ext cx="175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r ≈ L / log</a:t>
            </a:r>
            <a:r>
              <a:rPr b="0" lang="it-IT" sz="20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2" name="Group 26"/>
          <p:cNvGrpSpPr/>
          <p:nvPr/>
        </p:nvGrpSpPr>
        <p:grpSpPr>
          <a:xfrm>
            <a:off x="1428840" y="3929040"/>
            <a:ext cx="6000840" cy="642960"/>
            <a:chOff x="1428840" y="3929040"/>
            <a:chExt cx="6000840" cy="642960"/>
          </a:xfrm>
        </p:grpSpPr>
        <p:sp>
          <p:nvSpPr>
            <p:cNvPr id="143" name="Rectangle 27"/>
            <p:cNvSpPr/>
            <p:nvPr/>
          </p:nvSpPr>
          <p:spPr>
            <a:xfrm>
              <a:off x="1428840" y="392904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14288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22143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30002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66441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Straight Connector 32"/>
            <p:cNvSpPr/>
            <p:nvPr/>
          </p:nvSpPr>
          <p:spPr>
            <a:xfrm>
              <a:off x="4214880" y="421488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Box 33"/>
            <p:cNvSpPr/>
            <p:nvPr/>
          </p:nvSpPr>
          <p:spPr>
            <a:xfrm>
              <a:off x="161424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Box 34"/>
            <p:cNvSpPr/>
            <p:nvPr/>
          </p:nvSpPr>
          <p:spPr>
            <a:xfrm>
              <a:off x="245772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TextBox 35"/>
            <p:cNvSpPr/>
            <p:nvPr/>
          </p:nvSpPr>
          <p:spPr>
            <a:xfrm>
              <a:off x="324360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TextBox 36"/>
            <p:cNvSpPr/>
            <p:nvPr/>
          </p:nvSpPr>
          <p:spPr>
            <a:xfrm>
              <a:off x="6841080" y="40003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3" name="TextBox 40"/>
          <p:cNvSpPr/>
          <p:nvPr/>
        </p:nvSpPr>
        <p:spPr>
          <a:xfrm>
            <a:off x="664920" y="235728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675360" y="39290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843280" y="5462640"/>
            <a:ext cx="39434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37"/>
          <p:cNvGrpSpPr/>
          <p:nvPr/>
        </p:nvGrpSpPr>
        <p:grpSpPr>
          <a:xfrm>
            <a:off x="6714720" y="5786280"/>
            <a:ext cx="1899720" cy="642960"/>
            <a:chOff x="6714720" y="5786280"/>
            <a:chExt cx="1899720" cy="642960"/>
          </a:xfrm>
        </p:grpSpPr>
        <p:cxnSp>
          <p:nvCxnSpPr>
            <p:cNvPr id="157" name="Straight Arrow Connector 38"/>
            <p:cNvCxnSpPr/>
            <p:nvPr/>
          </p:nvCxnSpPr>
          <p:spPr>
            <a:xfrm flipH="1" flipV="1">
              <a:off x="6714720" y="6071760"/>
              <a:ext cx="786240" cy="35784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58" name="TextBox 39"/>
            <p:cNvSpPr/>
            <p:nvPr/>
          </p:nvSpPr>
          <p:spPr>
            <a:xfrm>
              <a:off x="7299720" y="57862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9" name="Rounded Rectangle 42"/>
          <p:cNvSpPr/>
          <p:nvPr/>
        </p:nvSpPr>
        <p:spPr>
          <a:xfrm>
            <a:off x="6215040" y="150012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 = max string l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 = tabl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Rounded Rectangle 43"/>
          <p:cNvSpPr/>
          <p:nvPr/>
        </p:nvSpPr>
        <p:spPr>
          <a:xfrm>
            <a:off x="4786200" y="6419880"/>
            <a:ext cx="4429080" cy="438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t necessarily: (...mod p) mod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ckoo Hash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Rectangle 53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60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Rectangle 61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62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67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Rectangle 68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69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72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ectangle 74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75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ctangle 76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77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ctangle 78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79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Line 80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Line 81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Line 82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Line 83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Line 84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285840" y="5857920"/>
            <a:ext cx="86439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ash tables, and </a:t>
            </a: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ndom choices where an item can be sto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7079400" y="34956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4-10-14T11:54:12Z</dcterms:modified>
  <cp:revision>1154</cp:revision>
  <dc:subject/>
  <dc:title>Web Algorithmics</dc:title>
</cp:coreProperties>
</file>